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01925"/>
        <c:axId val="80857821"/>
      </c:barChart>
      <c:catAx>
        <c:axId val="58301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57821"/>
        <c:crosses val="autoZero"/>
        <c:auto val="1"/>
        <c:lblAlgn val="ctr"/>
        <c:lblOffset val="100"/>
        <c:noMultiLvlLbl val="0"/>
      </c:catAx>
      <c:valAx>
        <c:axId val="80857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1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B4C-86AA-4C7E-9836-A3320A32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249-875B-41A1-81F0-D192D1B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147-5C2A-4485-BFA9-F55F37D5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6EE-4224-438B-BCBF-90EC083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7D2-21BD-42DD-9D41-137CAD4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329-1FB5-482C-B472-68F39DD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01D-0DF1-4F6B-A97A-92782139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D83-4B0E-4ED8-9F0E-4D24814B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9C9-F21D-488D-BA2B-21B1974F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575-4A38-46F4-85FB-70F337F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0467-050C-4A2B-BBDC-0CF9FCD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0160-6154-487C-89EE-2D425887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68A9A-C5F7-49B7-AC97-FA6955B1B5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